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14F-EDC3-4082-B109-4B394F36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3C7-5B37-4F79-886C-75DF9FCA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CFBA8-5E48-495F-A62C-5FEFB898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83015-2EAD-408F-8323-251714AB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1A98E-88DD-463E-B5B0-88829522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F4957-89CF-45DE-BC85-A28E2A5C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B6A8A-40BA-4458-933B-FD2A1B34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1ED4D-AC40-4CBB-8F87-4A358767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8274F-A823-45C1-B25D-BC8BFCF9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6ED7C-2CB3-4987-9A06-BCEC2B32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FE8D7-6C70-4AF6-9A32-60D32313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0BB51-5D2C-4A02-BC87-78DB0F23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9FB-740C-4946-AC8B-73D98A2B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0D722-C794-4C20-84DD-86DD3A91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17CC3-B797-4D7F-9C30-2DF3833A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DA778-F21C-4041-9BCC-888F2C86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8A00B-387E-4043-A224-58AE106E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43E07-6765-430C-A2B7-93B4076C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671DB-F2AB-4D10-A254-07DF4BC7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994F3-7D40-4978-8568-154FA403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104F3-7A61-4E71-A540-97836D44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1496A-A6C9-4A3C-A49C-7048D45F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0AE89-3D51-486D-9B9A-0757C5FB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22C-23B7-4DE9-B9CC-0F6B1ED8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A59BA-B44A-4131-A19F-0D509385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6E7E7-6FED-43CE-9694-B6CB8C76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8A615-A50F-4ECE-AC5F-2570D018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17FE9-A5A9-40A0-8953-75DBACAA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7968E-2B4E-497F-852C-1D6406DD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9EFD5-35A3-40CA-A70F-31C5F1F0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025A5-547D-4B3D-8475-D3770014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0B7D9-1146-401A-9762-0798C2A7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48A55-B89D-4966-9EBD-1F2E37B7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457D4-214F-471E-9B0A-B60642A4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4118-0EB5-47F4-B00D-09166E1F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319DB-06DF-4763-884F-D0E4CD13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27F6B-5CDC-4C8C-AFB6-611CB1EC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46C07-7B2F-4333-9607-87BCD751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B85F-5CE3-440C-A147-593785A2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2011-A778-4FA0-A5CD-5CD306B5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0A72-D3E1-4211-88A6-48E62BB7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2FC5-147C-41B0-B334-FBAD8BE1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12D9-F3B0-4312-A28C-939C1375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2167-1FAB-4E1B-A50B-1E23A218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973-0DD5-4F43-9094-30E63CCC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EAD8-2F91-4A93-8129-DFDE6914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0E96-9325-4C10-A0A8-291BAB02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9F19-85A8-4EDC-AB04-708ABD87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2A1F-CC0C-46AE-B7B2-703B6BA8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4B2B-84B8-48A8-87FB-862E2CF9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84D86-5502-465E-A153-77BA6EBC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2948-8C53-47BE-84F3-62228020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435FD-E4BB-4FA2-AFF3-5FB98AD9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205C-F6FB-44AB-A8E2-0452CC50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C4A9B-6D3F-4D08-838C-CB51C7E4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983-15A5-45A9-A80B-1BE82A26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E52A9-1C9E-465B-A79C-D305B26B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EA4D2-ABDF-46B6-A6C4-9386F611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8847A-6132-46E4-8F4F-162EB2F0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0CC2-3B32-4FE0-9D59-3A64F800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799C4-0792-4EDB-B81F-C397F3C4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1F715-6359-47F7-A036-091A8894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92B2A-911D-43A6-B85D-25BD5A6D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3F725-30FE-449D-AC06-07DDFCA8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495BF-3E79-43AC-B13E-1BAEBA23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EDC48-26F6-463C-8E82-6A80FDB0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0B6-1AEF-4968-B7A3-CD7F07B4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39D8D-4EB4-48BB-B02C-23948474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BDAE3-9C06-4489-97B5-0E3DD50D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72E60-A090-4BD4-A268-BD6EFE35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7EE46-9481-4255-AA2C-46BEE123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CFB22-1C89-42BF-BC2F-0E836229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B023-BAFA-4EE8-9C53-2DE4A36E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3D6C5-B3C4-49CD-B159-5A1D663C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3F073-EE31-4AEF-B5EC-BDEA4299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C6F56-964D-4E39-8DFD-94C62BC1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455F1-6FFF-4CFA-BD37-5C48FF4D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488-9648-445A-878A-E49694C7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546B0-1BA5-4EB1-8BA2-8489BE75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6EA02-AABD-48B7-A18B-AAEAF62B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BC174-C579-483D-8EDD-8004823C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DC2DF-80D2-43B2-A76C-17EFB42A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BCDC5-744B-41A6-81EA-34DF11BD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7D2D1-5A90-484B-A82B-89BE3334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DBD50-EE7A-4B65-9317-90B24CE1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DA1DB-4597-4964-AD01-1F5B1F45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0740C-DD9C-4914-9412-48764B72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67D86-28D3-4DCD-ACD4-D5E8DC6D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B3E-D4F1-4BDC-986A-110FC9BA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6EB99-70F5-4248-94CC-04B9E2AA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82D82-ADCA-4946-9935-D2550074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83086-A6F7-4FF9-ABD8-301D8754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7C90C-BF00-4F62-AD22-6D63E2CF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B895C-1824-4D6C-98FC-A13BB329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1FC0A-026B-469B-8548-4D6C1370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C81A4-8D08-4DD6-BCDE-D1DA24D6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C2D14-5550-4BBA-A87C-C72E1A1E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8FDA0-D121-4EAF-B0C0-51385DF1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82EDD-9013-4D2E-8761-7AA65989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9CF-DB9E-4E4A-8EA2-F4F42F9E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E5C7F-02DC-4843-97FC-92AD0E35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82FEE-321B-4643-8D4B-C8DCF0ED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418AA-1074-4D9C-9EE7-6EF71C5D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B6805-5F13-4AA1-9924-696B65E7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5E18A-140C-4C2F-99B1-0A0A407E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B7660-180B-4A88-BB6D-99581945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97114-1A38-4778-B4F2-32EB497A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DFDEA-B465-4DCE-9301-8ADFB9DC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95DB9-32A4-43F7-B3B4-CA1CFA52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7B1F3-F6E7-4C14-9D69-EC8E9717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DDF-886F-4246-BAAB-3B2F5280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519B6-B99D-4F08-B2E8-FC1BD4E7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37C72-2316-466D-AB06-AC71A418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303F2-3405-4B12-B52F-F1FADEC3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37159-499A-455F-BF69-27A8CF01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C4AFC-5B7B-4323-858B-531D783A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E621A-A808-4C30-90BE-675BF4C0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81465-0C90-44B2-AAFA-37E89476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F53B7-599B-4EE1-8123-47A7F5D8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42FB0-CDE2-4516-8041-B8C40CA1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09DC3-345E-45D0-96D3-971AD612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3E0-CA7F-4486-964D-B85BB25F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D0D5D-BB47-4FCD-B2FD-CC524CC9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975C2-ADDB-46C3-8D32-C347E942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12926-B88E-4420-A330-2B51DFCC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4CF04-9B41-4862-B4E7-BDFBE7ED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A5F9A-A966-45C6-BBFE-B3C7A666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8AD97-244B-45E6-916F-8CE94F09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04CD6-B117-4EDB-8FF7-FF243D7A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EB93A-A6E3-4FAD-B159-7B910C5B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22696-CDB6-49E7-A856-A0D607CE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EDCB0-4EAC-426C-A354-71E8A2B6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4F8A6-369D-4AE4-9640-96EB1E1A9CC2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48B94-35A6-4F9A-A0A7-81F6DD6250BD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DEF28-3AD2-489D-979D-4177CDED9B36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36924-AC0F-4FB3-AEA0-5C668E886749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15349-C0D9-4B0D-917E-F6227CF8B44F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7765A-AA2F-47BC-A415-56F3FFA7A6D1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83984-4105-4BA7-9AA5-C605AB8DA95C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36B4D-419B-42FF-8F6E-DF42939B47A8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3ACD7-53A5-4136-AE01-A88E35F63B21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F1533-29C7-4079-A7DB-49B98213B72C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90400" y="500760"/>
                <a:ext cx="3310920" cy="48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480"/>
              <a:ext cx="2793600" cy="4321800"/>
              <a:chOff x="5346360" y="771480"/>
              <a:chExt cx="2793600" cy="432180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480"/>
                <a:ext cx="2793600" cy="432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8120" y="813600"/>
                <a:ext cx="2718720" cy="424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50911-E31D-4330-A701-63F22C02A457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28760" y="3071880"/>
            <a:ext cx="8424720" cy="25416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НОВОЕ ВРЕМЯ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НОВЫЕ ПРОФЕССИИ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   </a:t>
            </a: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5 ТИПОВ ПРОФЕССИЙ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3" name="Picture 5" descr=""/>
          <p:cNvPicPr/>
          <p:nvPr/>
        </p:nvPicPr>
        <p:blipFill>
          <a:blip r:embed="rId1"/>
          <a:srcRect l="16838" t="30520" r="17409" b="1312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2960" y="347400"/>
            <a:ext cx="7353360" cy="10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ПЛАН ЗАЩИТЫ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79280" y="1709640"/>
            <a:ext cx="885672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пределение профессии (общая характеристика, история, 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ачества необходимые человеку этой професси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ласть применен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люсы и минусы професси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рудоустройств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08000" y="115920"/>
            <a:ext cx="90360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Narrow"/>
              </a:rPr>
              <a:t>О каких новых профессиях вы узнали?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Narrow"/>
              </a:rPr>
              <a:t>Сделали ли вы свой профессиональный выбор?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85920" y="1989000"/>
            <a:ext cx="6572160" cy="10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СПАСИБО ЗА РАБОТУ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6:25:39Z</dcterms:created>
  <dc:creator>User</dc:creator>
  <dc:description/>
  <dc:language>en-US</dc:language>
  <cp:lastModifiedBy>ПК</cp:lastModifiedBy>
  <dcterms:modified xsi:type="dcterms:W3CDTF">2024-05-16T04:29:20Z</dcterms:modified>
  <cp:revision>8</cp:revision>
  <dc:subject/>
  <dc:title>Классификация профессий</dc:title>
</cp:coreProperties>
</file>